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png" ContentType="image/png"/>
  <Override PartName="/ppt/media/image7.png" ContentType="image/png"/>
  <Override PartName="/ppt/media/image8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7F1-1D03-411B-8AC3-D0B2B4AC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202-7754-42A8-B3ED-71707A59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168F5-C42E-45DC-980F-2FDD0C24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7C32D-04C4-47E7-B255-6CE07A35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E1A3C-B46B-44C0-9F07-6631B662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DB2B4-212A-4179-B809-59A4B2B9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A0510-8A33-4BF8-AC70-21881D3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2C643-DD23-4797-A8FB-17522AF9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659D5-E258-423D-98AC-5E868169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7F312-35BE-4234-A6C1-8F793C15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48FB-5713-407B-B559-7C43C37C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A5CE5-3CF0-4EE0-9366-AFC9F68B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1A6-E103-4EF3-AAD1-932286BF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D645D-3CBC-49ED-8991-D738BC92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F6CCB-30AC-42BC-8F04-DCDD6EC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3A54C-1BD4-4BE5-948A-4E87D4CB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2B6CF-A0C5-42FF-852C-2B9A9B25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72599-4936-48BE-9684-E4453579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F8665-4B46-479E-9411-1BA1ACB4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7CDD6-5019-453B-9DB7-A173C8BF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5657E-3AEF-4811-A543-A99D434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68884-B0B1-4947-91E9-5A429025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1DF65-62B8-4655-8CCC-63200EA4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955-E2FF-4A7B-A5FC-A2B43082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37DFE-C1B0-4C24-AEE9-3E46F2A9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DAECA-71C1-4F04-8365-E9778A16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146CE-C59C-43DC-804E-EA9C7A0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C1A43-BF84-4025-AE04-C44BB514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73A47-E645-4608-BD34-F9C4143F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01036-1341-45E9-AB19-F38CAE65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126B0-56F5-472D-99B8-CB8A080A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D6316-1280-4E9C-9F3F-1A9BF481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45F63-2F6A-4A00-AD43-4B51996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B6D70-28E2-4C6E-BD00-92C919C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5FAF-134F-4F5A-84B7-0D873B5E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2F09B-4BCD-4D3E-846B-F9ADBC36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C9622-B7D8-4C86-BEC5-7CEDACE5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BF32A-2412-41CB-87A6-3C8C98B4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C98BB-28EE-4F14-9F75-D899CE28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78296-EB4E-4BC1-B03A-2DF0D5FD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53536-268B-458C-A326-926EC640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E4F38-84A8-470C-9B09-B40495DD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57B6D-4389-46B8-B5DB-804D910D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E4FD9-7B66-4049-A967-9BBFB037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86483-EAE7-4F84-B3E0-2D0181F3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01F4-46EF-443D-8851-1A6D646F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9FD9B-F964-4D8E-9C95-E75C560B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498F7-1DDB-4570-BB56-E069D7B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B3028-3B0C-421B-9FEC-7F96E0EB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F3385-967B-4B95-98D9-F99CB0F9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B4E44-B44E-4E79-8A79-E53D0DF1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4952-3245-44C9-B5F6-BC0FE66C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1A0-59B6-469A-AD0B-1B5B7DB2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D624-A90D-4081-AA06-8CDEA800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EAA9-715F-45D7-A103-A9CA42AA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92B8-ECE1-4203-AF6A-ADCF97BC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97E-4B36-4781-A755-D4DD226A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3BD0-5D3A-45F8-823D-D4B1D0E4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B45C-B4D5-48B7-8448-25F5237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EAD-0249-485D-86BA-481109A1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80FF-37F9-4D6C-9C3A-1590D61B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1EFE-69B7-48A5-BB3D-DECF4BE1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0E12-2C09-4931-AA51-6C4525AA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D4FE-84FE-407E-AC03-360F7397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1757-CE95-4948-9D05-FCE5B92B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84EA-944B-40B3-9072-8B43FDC5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7F41-695D-459E-A650-F5B5BCF5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3B1-3688-4B83-B10F-7E806AB8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655DA-CE8E-459C-89A4-96312C4F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BAB0-7D0E-4990-A8EB-2D2187F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4D64-D53B-42A4-9682-34AA3B2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5E8A5-AC64-463F-BC10-986B3B6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0B16-E89D-461B-821B-8551C6A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9B0D-95B1-4C34-9633-A14DA0BA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39B9-5C87-4C9D-AA9B-CA378E4B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EA77-581F-4FFC-BB49-F1507D41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DC82-C262-4047-B02F-9C7F180B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34DE-9553-4CC4-933C-5DF029EE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E35-A7B0-41F8-908D-54F31250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AF0B-9E27-4FAF-AB1D-A3CDB4B7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3BDB8-C310-4FF7-8EB5-A7B4195A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80A6-CAD7-4988-A73E-CCAA33F5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1A5F-2A6F-4138-B838-C3008B08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3BA3-9DBA-4B33-8DC9-F4CCDAF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B622-70A6-49B0-95A0-9BD0C6BB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31CE-CC4A-45E2-920F-31DE2A18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9BDB0-5FFB-40EB-B706-B8723A43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B2DD6-1601-4FFF-91BF-29DB3244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69664-999C-40B9-8534-2BD51001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DEF-B5A0-45EB-A0D8-F22C15A0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757A-2A80-4D6E-B688-E07EF84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CEB6-CC74-4AB0-886A-45AA125E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01EA-8FBE-4ABB-9953-59197BEC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0BDC-EE7B-4CE7-967A-7DF3E109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6969D-055A-4F7B-9E56-C6723FB8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9E3D6-F81E-4099-AB22-8A834C24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A4824-0E24-43BD-BA64-6DAED4F2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AA828-3839-4FC0-9D75-2AB84DBE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49E8F-AD6B-420C-8DCF-DDDD69EC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9F32C-DE51-4721-85CF-C243191F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7B3-28B8-46A7-8EEA-ADFFA3D3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644AF-23F8-402C-AAFC-7720418C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7CE64-457A-4776-B8C4-D97E9D38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D56BC-9FE9-43DE-90C3-80F7F577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0E033-09AA-4202-A53A-2054FF1F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A097E-EA7A-4A07-826A-47CE0C85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6AC6A-D59F-46E7-9F77-71E20573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93C66-0942-4E29-8243-43E8FB36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75E9-E7BB-4B21-A463-694F1D0A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C2FAD-9711-44E6-A599-13B2861C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00016-BF70-466D-B59D-32163DE8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95C-87DA-4A2B-BBB4-49CD149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2397D-13D3-435D-8522-02275969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A805E-7B65-4170-992B-B52ABF52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870EA-CE03-4244-BCEA-EA17C7D6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E38B-63E1-4946-B871-B6E18FA0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50B08-04FF-4580-B1A3-2CD1E5EA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436D4-6804-4633-9CFB-989F54D3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27F79-0C78-4379-A673-AA4D7920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E5739-DA98-4230-BD0E-B74F23A4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1B07-9112-4606-B950-B6093973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1269-C0E0-432B-8BE8-D37FC2F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1B4-3413-4A3B-95C9-4DF8D218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D7587-9968-42A7-809B-09966D4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C642-A4BD-43D0-88B3-53522186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1091E-3900-4265-B17E-29FCD2AA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B2018-6824-4177-ABD8-612D4C88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E98C8-A84A-41A6-877E-D53D09B0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F40A8-00B3-4632-B164-9C4F5C1C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751D1-309B-4469-B35C-BA608003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889D5-A3AC-4195-8174-24778855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1FE15-FDCD-4191-86A4-2CFCFED1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FF12A-E708-446C-BF05-8B7ACFB7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82D-A20B-4C73-BB38-DD809D9D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757DD-2CE5-43E4-973F-94C13929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47F0E-06E9-46E4-8082-8360E9D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4B976-3E19-4F9F-88CA-0A296BF5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4B96A-FC3C-4075-A4F6-C582DAAB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DDF0E-732C-40EA-A2EC-3021627B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6D7DE-27D4-4405-ADDD-F0E52E7C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13E68-4705-4C6D-9CAE-439EBE6A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F54CE-6890-4988-AB17-A17DC441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DF5DE-3A37-4C4B-A25E-1E124832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6F247-DD7D-4FCC-9AAC-99F23D45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EEE0-C411-481C-AC2C-341E799F287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7BB1-867B-42C3-ACF4-A6BE47C8A95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68CC-32A7-4EE9-A519-DE5C552AD30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D821-C2B4-4C59-BA38-8527234230F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CDE7-009D-492F-BE7B-782A2240ED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23D-F60C-4A38-843C-52C4645154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C4DB-D6C1-47AF-A871-F9E275D7339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466C-C303-430E-80BC-1323517A95E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054-3278-4451-B17E-99A6A90C54F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D488-874D-42F5-A29A-0AF9AF25C50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A9CA-7EBD-4A55-95E6-39B49A3E18F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C69A-716A-48BE-8247-50D8E36B0E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601640" y="1765440"/>
            <a:ext cx="60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6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朱德的扁担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7" name="图片 3" descr=""/>
          <p:cNvPicPr/>
          <p:nvPr/>
        </p:nvPicPr>
        <p:blipFill>
          <a:blip r:embed="rId1"/>
          <a:stretch/>
        </p:blipFill>
        <p:spPr>
          <a:xfrm>
            <a:off x="760320" y="2619360"/>
            <a:ext cx="4200480" cy="380844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4" descr=""/>
          <p:cNvPicPr/>
          <p:nvPr/>
        </p:nvPicPr>
        <p:blipFill>
          <a:blip r:embed="rId2"/>
          <a:stretch/>
        </p:blipFill>
        <p:spPr>
          <a:xfrm>
            <a:off x="4281480" y="2546280"/>
            <a:ext cx="422100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68000" y="1197000"/>
            <a:ext cx="80341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928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，朱德同志带领队伍到井冈山和毛泽东同志胜利会师后，国民党就把井冈山革命根据地视为眼中钉、肉中刺，千方百计想拔掉它。他们在两次围剿失败后，又实行了经济封锁，妄图把红军饿死、冻死、困死。这时，从山下秘密挑粮上山成了红军的一项重要任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3"/>
          <p:cNvSpPr/>
          <p:nvPr/>
        </p:nvSpPr>
        <p:spPr>
          <a:xfrm>
            <a:off x="5536440" y="1494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华文彩云"/>
                <a:ea typeface="华文彩云"/>
              </a:rPr>
              <a:t>历史背景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3" descr=""/>
          <p:cNvPicPr/>
          <p:nvPr/>
        </p:nvPicPr>
        <p:blipFill>
          <a:blip r:embed="rId1"/>
          <a:stretch/>
        </p:blipFill>
        <p:spPr>
          <a:xfrm>
            <a:off x="287280" y="981000"/>
            <a:ext cx="8569440" cy="53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4"/>
          <p:cNvSpPr/>
          <p:nvPr/>
        </p:nvSpPr>
        <p:spPr>
          <a:xfrm>
            <a:off x="1344960" y="1341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cc"/>
                </a:solidFill>
                <a:uFillTx/>
                <a:latin typeface="华文彩云"/>
                <a:ea typeface="华文彩云"/>
              </a:rPr>
              <a:t>阅读提示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矩形 3"/>
          <p:cNvSpPr/>
          <p:nvPr/>
        </p:nvSpPr>
        <p:spPr>
          <a:xfrm>
            <a:off x="826920" y="2349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分小组用自己喜欢的读书方式，正确流利地朗读课文，想一想：战士们为什么要藏朱德的扁担？后来为什么又不藏了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2"/>
          <p:cNvSpPr/>
          <p:nvPr/>
        </p:nvSpPr>
        <p:spPr>
          <a:xfrm>
            <a:off x="1332000" y="119700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   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战士们不想让朱德挑粮是心疼他，从哪些句子看出挑粮很辛苦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矩形 3"/>
          <p:cNvSpPr/>
          <p:nvPr/>
        </p:nvSpPr>
        <p:spPr>
          <a:xfrm>
            <a:off x="880920" y="3213000"/>
            <a:ext cx="766944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从井冈山上到茅坪，来回有五六十里，山高路陡，非常难走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3"/>
          <p:cNvSpPr/>
          <p:nvPr/>
        </p:nvSpPr>
        <p:spPr>
          <a:xfrm>
            <a:off x="4211640" y="11253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他穿着草鞋，戴着斗笠，挑起粮食，跟大家一块儿爬山。白天挑粮爬山，晚上还常常整夜整夜地研究怎样跟敌人打仗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5" name="图片 1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672000" cy="46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1" descr=""/>
          <p:cNvPicPr/>
          <p:nvPr/>
        </p:nvPicPr>
        <p:blipFill>
          <a:blip r:embed="rId1"/>
          <a:stretch/>
        </p:blipFill>
        <p:spPr>
          <a:xfrm>
            <a:off x="179280" y="1123920"/>
            <a:ext cx="8815320" cy="49690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2268000" y="1591920"/>
            <a:ext cx="4131000" cy="403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朱德挑谷上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粮食绝对可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大家齐心协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粉碎敌人围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4" descr="t016776e8f4052c6342.gif"/>
          <p:cNvPicPr/>
          <p:nvPr/>
        </p:nvPicPr>
        <p:blipFill>
          <a:blip r:embed="rId1"/>
          <a:stretch/>
        </p:blipFill>
        <p:spPr>
          <a:xfrm flipH="1">
            <a:off x="5796000" y="3500280"/>
            <a:ext cx="2448000" cy="2300400"/>
          </a:xfrm>
          <a:prstGeom prst="rect">
            <a:avLst/>
          </a:prstGeom>
          <a:ln w="0">
            <a:noFill/>
          </a:ln>
        </p:spPr>
      </p:pic>
      <p:sp>
        <p:nvSpPr>
          <p:cNvPr id="629" name="矩形 5"/>
          <p:cNvSpPr/>
          <p:nvPr/>
        </p:nvSpPr>
        <p:spPr>
          <a:xfrm>
            <a:off x="826920" y="1628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的精神令人敬佩，一直到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958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年，已是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72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岁高龄的他还到十三陵水库和大家一起挑土修水库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31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标题 1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4"/>
          <p:cNvSpPr/>
          <p:nvPr/>
        </p:nvSpPr>
        <p:spPr>
          <a:xfrm>
            <a:off x="6100560" y="189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资料袋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矩形 1"/>
          <p:cNvSpPr/>
          <p:nvPr/>
        </p:nvSpPr>
        <p:spPr>
          <a:xfrm>
            <a:off x="611280" y="1628640"/>
            <a:ext cx="7705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朱德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886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～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976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） 马克思列宁主义者，中国无产阶级革命家、政治家、军事家，中国共产党、中华人民共和国的主要领导人，中国人民解放军的主要创建人和领导人。字玉阶，四川仪陇人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95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年被授予中华人民共和国元帅军衔。在参与领导社会主义建设中，为实现农业、工业、国防和科学技术现代化的伟大历史任务作了巨大努力。主要著作编入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《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朱德选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》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4"/>
          <p:cNvSpPr/>
          <p:nvPr/>
        </p:nvSpPr>
        <p:spPr>
          <a:xfrm>
            <a:off x="5577840" y="149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ccccff"/>
                </a:solidFill>
                <a:uFillTx/>
                <a:latin typeface="华文彩云"/>
                <a:ea typeface="华文彩云"/>
              </a:rPr>
              <a:t>阅读提示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矩形 3"/>
          <p:cNvSpPr/>
          <p:nvPr/>
        </p:nvSpPr>
        <p:spPr>
          <a:xfrm>
            <a:off x="611280" y="1557360"/>
            <a:ext cx="8353440" cy="32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华文彩云"/>
                <a:ea typeface="华文彩云"/>
              </a:rPr>
              <a:t>自由朗读课文并完成下列任务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可以看拼音，或者请教老师和同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准每一个字的字音，圈出生字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通每个句子，读不通顺的多读几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给每个自然段写上序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618920" y="14130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ǎ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d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à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zhì   w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扁     担    志    伍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ī  j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ū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zh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à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shì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师 军    战     士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71400" y="1257480"/>
            <a:ext cx="78012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朱德 扁担 抽出 敌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斗笠 打仗 心疼 不料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敬爱 山高路陡 难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一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填一填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带领大家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，战士们心疼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，把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藏起来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在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写上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五个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7" descr="t016776e8f4052c6342.gif"/>
          <p:cNvPicPr/>
          <p:nvPr/>
        </p:nvPicPr>
        <p:blipFill>
          <a:blip r:embed="rId1"/>
          <a:stretch/>
        </p:blipFill>
        <p:spPr>
          <a:xfrm>
            <a:off x="374760" y="3792600"/>
            <a:ext cx="1962000" cy="1960560"/>
          </a:xfrm>
          <a:prstGeom prst="rect">
            <a:avLst/>
          </a:prstGeom>
          <a:ln w="0">
            <a:noFill/>
          </a:ln>
        </p:spPr>
      </p:pic>
      <p:sp>
        <p:nvSpPr>
          <p:cNvPr id="519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0" name="Group 29"/>
          <p:cNvGrpSpPr/>
          <p:nvPr/>
        </p:nvGrpSpPr>
        <p:grpSpPr>
          <a:xfrm>
            <a:off x="739800" y="1859040"/>
            <a:ext cx="1503360" cy="1360440"/>
            <a:chOff x="739800" y="1859040"/>
            <a:chExt cx="1503360" cy="1360440"/>
          </a:xfrm>
        </p:grpSpPr>
        <p:sp>
          <p:nvSpPr>
            <p:cNvPr id="521" name="Rectangle 30"/>
            <p:cNvSpPr/>
            <p:nvPr/>
          </p:nvSpPr>
          <p:spPr>
            <a:xfrm>
              <a:off x="14914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2" name="Rectangle 31"/>
            <p:cNvSpPr/>
            <p:nvPr/>
          </p:nvSpPr>
          <p:spPr>
            <a:xfrm>
              <a:off x="7398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Rectangle 32"/>
            <p:cNvSpPr/>
            <p:nvPr/>
          </p:nvSpPr>
          <p:spPr>
            <a:xfrm>
              <a:off x="14914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Rectangle 33"/>
            <p:cNvSpPr/>
            <p:nvPr/>
          </p:nvSpPr>
          <p:spPr>
            <a:xfrm>
              <a:off x="7398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>
              <a:off x="7398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Line 35"/>
            <p:cNvSpPr/>
            <p:nvPr/>
          </p:nvSpPr>
          <p:spPr>
            <a:xfrm>
              <a:off x="7398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>
              <a:off x="7398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Line 37"/>
            <p:cNvSpPr/>
            <p:nvPr/>
          </p:nvSpPr>
          <p:spPr>
            <a:xfrm>
              <a:off x="7398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Line 38"/>
            <p:cNvSpPr/>
            <p:nvPr/>
          </p:nvSpPr>
          <p:spPr>
            <a:xfrm>
              <a:off x="14914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0" name="Line 39"/>
            <p:cNvSpPr/>
            <p:nvPr/>
          </p:nvSpPr>
          <p:spPr>
            <a:xfrm>
              <a:off x="2243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1" name="Text Box 40"/>
          <p:cNvSpPr/>
          <p:nvPr/>
        </p:nvSpPr>
        <p:spPr>
          <a:xfrm>
            <a:off x="80496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扁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2" name="Group 29"/>
          <p:cNvGrpSpPr/>
          <p:nvPr/>
        </p:nvGrpSpPr>
        <p:grpSpPr>
          <a:xfrm>
            <a:off x="2297160" y="1859040"/>
            <a:ext cx="1504800" cy="1360440"/>
            <a:chOff x="2297160" y="1859040"/>
            <a:chExt cx="1504800" cy="1360440"/>
          </a:xfrm>
        </p:grpSpPr>
        <p:sp>
          <p:nvSpPr>
            <p:cNvPr id="533" name="Rectangle 30"/>
            <p:cNvSpPr/>
            <p:nvPr/>
          </p:nvSpPr>
          <p:spPr>
            <a:xfrm>
              <a:off x="3049560" y="253368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4" name="Rectangle 31"/>
            <p:cNvSpPr/>
            <p:nvPr/>
          </p:nvSpPr>
          <p:spPr>
            <a:xfrm>
              <a:off x="2297160" y="253368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Rectangle 32"/>
            <p:cNvSpPr/>
            <p:nvPr/>
          </p:nvSpPr>
          <p:spPr>
            <a:xfrm>
              <a:off x="3049560" y="185904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Rectangle 33"/>
            <p:cNvSpPr/>
            <p:nvPr/>
          </p:nvSpPr>
          <p:spPr>
            <a:xfrm>
              <a:off x="2297160" y="185904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Line 34"/>
            <p:cNvSpPr/>
            <p:nvPr/>
          </p:nvSpPr>
          <p:spPr>
            <a:xfrm>
              <a:off x="2297160" y="185904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Line 35"/>
            <p:cNvSpPr/>
            <p:nvPr/>
          </p:nvSpPr>
          <p:spPr>
            <a:xfrm>
              <a:off x="2297160" y="253368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Line 36"/>
            <p:cNvSpPr/>
            <p:nvPr/>
          </p:nvSpPr>
          <p:spPr>
            <a:xfrm>
              <a:off x="2297160" y="321948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Line 37"/>
            <p:cNvSpPr/>
            <p:nvPr/>
          </p:nvSpPr>
          <p:spPr>
            <a:xfrm>
              <a:off x="2297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Line 38"/>
            <p:cNvSpPr/>
            <p:nvPr/>
          </p:nvSpPr>
          <p:spPr>
            <a:xfrm>
              <a:off x="304956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2" name="Line 39"/>
            <p:cNvSpPr/>
            <p:nvPr/>
          </p:nvSpPr>
          <p:spPr>
            <a:xfrm>
              <a:off x="38019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3" name="Text Box 40"/>
          <p:cNvSpPr/>
          <p:nvPr/>
        </p:nvSpPr>
        <p:spPr>
          <a:xfrm>
            <a:off x="236232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担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4" name="Group 29"/>
          <p:cNvGrpSpPr/>
          <p:nvPr/>
        </p:nvGrpSpPr>
        <p:grpSpPr>
          <a:xfrm>
            <a:off x="3852720" y="1859040"/>
            <a:ext cx="1503360" cy="1360440"/>
            <a:chOff x="3852720" y="1859040"/>
            <a:chExt cx="1503360" cy="1360440"/>
          </a:xfrm>
        </p:grpSpPr>
        <p:sp>
          <p:nvSpPr>
            <p:cNvPr id="545" name="Rectangle 30"/>
            <p:cNvSpPr/>
            <p:nvPr/>
          </p:nvSpPr>
          <p:spPr>
            <a:xfrm>
              <a:off x="460440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6" name="Rectangle 31"/>
            <p:cNvSpPr/>
            <p:nvPr/>
          </p:nvSpPr>
          <p:spPr>
            <a:xfrm>
              <a:off x="385272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7" name="Rectangle 32"/>
            <p:cNvSpPr/>
            <p:nvPr/>
          </p:nvSpPr>
          <p:spPr>
            <a:xfrm>
              <a:off x="460440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Rectangle 33"/>
            <p:cNvSpPr/>
            <p:nvPr/>
          </p:nvSpPr>
          <p:spPr>
            <a:xfrm>
              <a:off x="385272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Line 34"/>
            <p:cNvSpPr/>
            <p:nvPr/>
          </p:nvSpPr>
          <p:spPr>
            <a:xfrm>
              <a:off x="385272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Line 35"/>
            <p:cNvSpPr/>
            <p:nvPr/>
          </p:nvSpPr>
          <p:spPr>
            <a:xfrm>
              <a:off x="385272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Line 36"/>
            <p:cNvSpPr/>
            <p:nvPr/>
          </p:nvSpPr>
          <p:spPr>
            <a:xfrm>
              <a:off x="385272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Line 37"/>
            <p:cNvSpPr/>
            <p:nvPr/>
          </p:nvSpPr>
          <p:spPr>
            <a:xfrm>
              <a:off x="385272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Line 38"/>
            <p:cNvSpPr/>
            <p:nvPr/>
          </p:nvSpPr>
          <p:spPr>
            <a:xfrm>
              <a:off x="460440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4" name="Line 39"/>
            <p:cNvSpPr/>
            <p:nvPr/>
          </p:nvSpPr>
          <p:spPr>
            <a:xfrm>
              <a:off x="535608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5" name="Text Box 40"/>
          <p:cNvSpPr/>
          <p:nvPr/>
        </p:nvSpPr>
        <p:spPr>
          <a:xfrm>
            <a:off x="3916440" y="174960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志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6" name="Group 29"/>
          <p:cNvGrpSpPr/>
          <p:nvPr/>
        </p:nvGrpSpPr>
        <p:grpSpPr>
          <a:xfrm>
            <a:off x="5432400" y="1859040"/>
            <a:ext cx="1503360" cy="1360440"/>
            <a:chOff x="5432400" y="1859040"/>
            <a:chExt cx="1503360" cy="1360440"/>
          </a:xfrm>
        </p:grpSpPr>
        <p:sp>
          <p:nvSpPr>
            <p:cNvPr id="557" name="Rectangle 30"/>
            <p:cNvSpPr/>
            <p:nvPr/>
          </p:nvSpPr>
          <p:spPr>
            <a:xfrm>
              <a:off x="61840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Rectangle 31"/>
            <p:cNvSpPr/>
            <p:nvPr/>
          </p:nvSpPr>
          <p:spPr>
            <a:xfrm>
              <a:off x="54324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61840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Rectangle 33"/>
            <p:cNvSpPr/>
            <p:nvPr/>
          </p:nvSpPr>
          <p:spPr>
            <a:xfrm>
              <a:off x="54324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1" name="Line 34"/>
            <p:cNvSpPr/>
            <p:nvPr/>
          </p:nvSpPr>
          <p:spPr>
            <a:xfrm>
              <a:off x="54324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35"/>
            <p:cNvSpPr/>
            <p:nvPr/>
          </p:nvSpPr>
          <p:spPr>
            <a:xfrm>
              <a:off x="54324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36"/>
            <p:cNvSpPr/>
            <p:nvPr/>
          </p:nvSpPr>
          <p:spPr>
            <a:xfrm>
              <a:off x="54324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Line 37"/>
            <p:cNvSpPr/>
            <p:nvPr/>
          </p:nvSpPr>
          <p:spPr>
            <a:xfrm>
              <a:off x="54324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38"/>
            <p:cNvSpPr/>
            <p:nvPr/>
          </p:nvSpPr>
          <p:spPr>
            <a:xfrm>
              <a:off x="61840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Line 39"/>
            <p:cNvSpPr/>
            <p:nvPr/>
          </p:nvSpPr>
          <p:spPr>
            <a:xfrm>
              <a:off x="69357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7" name="Text Box 40"/>
          <p:cNvSpPr/>
          <p:nvPr/>
        </p:nvSpPr>
        <p:spPr>
          <a:xfrm>
            <a:off x="5495760" y="17496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伍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8" name="Group 29"/>
          <p:cNvGrpSpPr/>
          <p:nvPr/>
        </p:nvGrpSpPr>
        <p:grpSpPr>
          <a:xfrm>
            <a:off x="7012080" y="1855800"/>
            <a:ext cx="1503360" cy="1359000"/>
            <a:chOff x="7012080" y="1855800"/>
            <a:chExt cx="1503360" cy="1359000"/>
          </a:xfrm>
        </p:grpSpPr>
        <p:sp>
          <p:nvSpPr>
            <p:cNvPr id="569" name="Rectangle 30"/>
            <p:cNvSpPr/>
            <p:nvPr/>
          </p:nvSpPr>
          <p:spPr>
            <a:xfrm>
              <a:off x="7763760" y="252972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0" name="Rectangle 31"/>
            <p:cNvSpPr/>
            <p:nvPr/>
          </p:nvSpPr>
          <p:spPr>
            <a:xfrm>
              <a:off x="7012080" y="252972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Rectangle 32"/>
            <p:cNvSpPr/>
            <p:nvPr/>
          </p:nvSpPr>
          <p:spPr>
            <a:xfrm>
              <a:off x="7763760" y="185580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Rectangle 33"/>
            <p:cNvSpPr/>
            <p:nvPr/>
          </p:nvSpPr>
          <p:spPr>
            <a:xfrm>
              <a:off x="7012080" y="185580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Line 34"/>
            <p:cNvSpPr/>
            <p:nvPr/>
          </p:nvSpPr>
          <p:spPr>
            <a:xfrm>
              <a:off x="7012080" y="1855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Line 35"/>
            <p:cNvSpPr/>
            <p:nvPr/>
          </p:nvSpPr>
          <p:spPr>
            <a:xfrm>
              <a:off x="7012080" y="25297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Line 36"/>
            <p:cNvSpPr/>
            <p:nvPr/>
          </p:nvSpPr>
          <p:spPr>
            <a:xfrm>
              <a:off x="7012080" y="3214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Line 37"/>
            <p:cNvSpPr/>
            <p:nvPr/>
          </p:nvSpPr>
          <p:spPr>
            <a:xfrm>
              <a:off x="701208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Line 38"/>
            <p:cNvSpPr/>
            <p:nvPr/>
          </p:nvSpPr>
          <p:spPr>
            <a:xfrm>
              <a:off x="7763760" y="18558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8" name="Line 39"/>
            <p:cNvSpPr/>
            <p:nvPr/>
          </p:nvSpPr>
          <p:spPr>
            <a:xfrm>
              <a:off x="851544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9" name="Text Box 40"/>
          <p:cNvSpPr/>
          <p:nvPr/>
        </p:nvSpPr>
        <p:spPr>
          <a:xfrm>
            <a:off x="5504040" y="361476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军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0" name="Group 29"/>
          <p:cNvGrpSpPr/>
          <p:nvPr/>
        </p:nvGrpSpPr>
        <p:grpSpPr>
          <a:xfrm>
            <a:off x="2297160" y="3759120"/>
            <a:ext cx="1504800" cy="1360440"/>
            <a:chOff x="2297160" y="3759120"/>
            <a:chExt cx="1504800" cy="1360440"/>
          </a:xfrm>
        </p:grpSpPr>
        <p:sp>
          <p:nvSpPr>
            <p:cNvPr id="581" name="Rectangle 30"/>
            <p:cNvSpPr/>
            <p:nvPr/>
          </p:nvSpPr>
          <p:spPr>
            <a:xfrm>
              <a:off x="3049560" y="443376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2297160" y="443376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3049560" y="375912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2297160" y="375912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Line 34"/>
            <p:cNvSpPr/>
            <p:nvPr/>
          </p:nvSpPr>
          <p:spPr>
            <a:xfrm>
              <a:off x="2297160" y="37591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Line 35"/>
            <p:cNvSpPr/>
            <p:nvPr/>
          </p:nvSpPr>
          <p:spPr>
            <a:xfrm>
              <a:off x="2297160" y="443376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Line 36"/>
            <p:cNvSpPr/>
            <p:nvPr/>
          </p:nvSpPr>
          <p:spPr>
            <a:xfrm>
              <a:off x="2297160" y="511956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Line 37"/>
            <p:cNvSpPr/>
            <p:nvPr/>
          </p:nvSpPr>
          <p:spPr>
            <a:xfrm>
              <a:off x="22971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9" name="Line 38"/>
            <p:cNvSpPr/>
            <p:nvPr/>
          </p:nvSpPr>
          <p:spPr>
            <a:xfrm>
              <a:off x="304956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0" name="Line 39"/>
            <p:cNvSpPr/>
            <p:nvPr/>
          </p:nvSpPr>
          <p:spPr>
            <a:xfrm>
              <a:off x="38019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1" name="Text Box 40"/>
          <p:cNvSpPr/>
          <p:nvPr/>
        </p:nvSpPr>
        <p:spPr>
          <a:xfrm>
            <a:off x="2362320" y="36496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战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2" name="Group 29"/>
          <p:cNvGrpSpPr/>
          <p:nvPr/>
        </p:nvGrpSpPr>
        <p:grpSpPr>
          <a:xfrm>
            <a:off x="3852720" y="3759120"/>
            <a:ext cx="1503360" cy="1360440"/>
            <a:chOff x="3852720" y="3759120"/>
            <a:chExt cx="1503360" cy="1360440"/>
          </a:xfrm>
        </p:grpSpPr>
        <p:sp>
          <p:nvSpPr>
            <p:cNvPr id="593" name="Rectangle 30"/>
            <p:cNvSpPr/>
            <p:nvPr/>
          </p:nvSpPr>
          <p:spPr>
            <a:xfrm>
              <a:off x="460440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4" name="Rectangle 31"/>
            <p:cNvSpPr/>
            <p:nvPr/>
          </p:nvSpPr>
          <p:spPr>
            <a:xfrm>
              <a:off x="385272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Rectangle 32"/>
            <p:cNvSpPr/>
            <p:nvPr/>
          </p:nvSpPr>
          <p:spPr>
            <a:xfrm>
              <a:off x="460440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Rectangle 33"/>
            <p:cNvSpPr/>
            <p:nvPr/>
          </p:nvSpPr>
          <p:spPr>
            <a:xfrm>
              <a:off x="385272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7" name="Line 34"/>
            <p:cNvSpPr/>
            <p:nvPr/>
          </p:nvSpPr>
          <p:spPr>
            <a:xfrm>
              <a:off x="385272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Line 35"/>
            <p:cNvSpPr/>
            <p:nvPr/>
          </p:nvSpPr>
          <p:spPr>
            <a:xfrm>
              <a:off x="385272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9" name="Line 36"/>
            <p:cNvSpPr/>
            <p:nvPr/>
          </p:nvSpPr>
          <p:spPr>
            <a:xfrm>
              <a:off x="385272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0" name="Line 37"/>
            <p:cNvSpPr/>
            <p:nvPr/>
          </p:nvSpPr>
          <p:spPr>
            <a:xfrm>
              <a:off x="385272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Line 38"/>
            <p:cNvSpPr/>
            <p:nvPr/>
          </p:nvSpPr>
          <p:spPr>
            <a:xfrm>
              <a:off x="460440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2" name="Line 39"/>
            <p:cNvSpPr/>
            <p:nvPr/>
          </p:nvSpPr>
          <p:spPr>
            <a:xfrm>
              <a:off x="535608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3" name="Text Box 40"/>
          <p:cNvSpPr/>
          <p:nvPr/>
        </p:nvSpPr>
        <p:spPr>
          <a:xfrm>
            <a:off x="3916440" y="36496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士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4" name="Group 29"/>
          <p:cNvGrpSpPr/>
          <p:nvPr/>
        </p:nvGrpSpPr>
        <p:grpSpPr>
          <a:xfrm>
            <a:off x="5432400" y="3759120"/>
            <a:ext cx="1503360" cy="1360440"/>
            <a:chOff x="5432400" y="3759120"/>
            <a:chExt cx="1503360" cy="1360440"/>
          </a:xfrm>
        </p:grpSpPr>
        <p:sp>
          <p:nvSpPr>
            <p:cNvPr id="605" name="Rectangle 30"/>
            <p:cNvSpPr/>
            <p:nvPr/>
          </p:nvSpPr>
          <p:spPr>
            <a:xfrm>
              <a:off x="618408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Rectangle 31"/>
            <p:cNvSpPr/>
            <p:nvPr/>
          </p:nvSpPr>
          <p:spPr>
            <a:xfrm>
              <a:off x="543240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Rectangle 32"/>
            <p:cNvSpPr/>
            <p:nvPr/>
          </p:nvSpPr>
          <p:spPr>
            <a:xfrm>
              <a:off x="618408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Rectangle 33"/>
            <p:cNvSpPr/>
            <p:nvPr/>
          </p:nvSpPr>
          <p:spPr>
            <a:xfrm>
              <a:off x="543240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>
              <a:off x="543240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543240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543240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543240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618408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69357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5" name="Text Box 40"/>
          <p:cNvSpPr/>
          <p:nvPr/>
        </p:nvSpPr>
        <p:spPr>
          <a:xfrm>
            <a:off x="7002360" y="175104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师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00Z</dcterms:created>
  <dc:creator/>
  <dc:description/>
  <dc:language>en-US</dc:language>
  <cp:lastModifiedBy>万润仪器贸易公司</cp:lastModifiedBy>
  <dcterms:modified xsi:type="dcterms:W3CDTF">2020-08-19T00:50:41Z</dcterms:modified>
  <cp:revision>4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